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D1F-350C-4803-9CB9-2600B606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9E3-039D-4C57-8E61-BDBB6EF8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1AE-90A6-4257-B302-3CF1427D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47C-28D7-4816-A47D-77B85AD6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4437-8B20-4E7F-915F-74478D6B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C4DA-DF14-4B1D-8AB5-6A723EFB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BB3C-5E7B-46D0-956E-DDC64C3F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F33E-3948-485C-94B0-EBE45D91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FF51-EBD4-455A-82CA-8FBD7A67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5EB3-A57F-4842-B061-FB0526E4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504E-C54B-4218-8BD3-CAA68487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20A-6351-4B1C-81D2-AE03AB33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2147-700C-4047-B0BB-56872A9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0BED-2D51-4EDF-8480-1F17E97F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4068-228E-45FC-82F4-A91F7660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357A-4FA3-4951-806C-D3EBD8BC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63EF-A7B5-4EDB-BFD0-CE54D192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BC5-DBC9-4F41-93D3-6C304DEF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2BE-FD30-424D-9B40-DA641702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8F8-70F8-4F36-97BC-AD46FD0E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35D-AF7C-4759-953D-26CBED86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1A8-56D1-4DCF-858C-45FC04BF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03E-3B63-4680-AC83-0742A4F0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A2B-7020-49F3-A26A-6C09909A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7834-643B-4ACD-AD25-0E0796153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81DC-36C2-42AD-A5A8-54894E8802F9}" type="slidenum">
              <a:rPr b="0" lang="en-US" sz="1400" spc="-1" strike="noStrike">
                <a:solidFill>
                  <a:srgbClr val="0000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imsbury High Scho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ahoma"/>
              </a:rPr>
              <a:t>The Trojan Cod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Know the Cod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Professional Development Ses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disciplinary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ed 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is PBIS and how can it work in our scho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ing and defining behavior statement and expec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ing the matri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ng the office discipline referral 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ng course syllabi to include the Trojan Code expec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 upd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BISWorld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alution of the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Beginning of the year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roll-o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 session for teachers in Aug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class meetings during the first week of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ly discussions during SHS Connect (adviso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urrent Challen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eeping the momentum going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booster sessions, pep rallies for winter and spring sports, class meetings, student videos, weekly e-mail blasts, Trojan Code Sports N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unding for Thank You Program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grant from SPTC, budgeted for 2012-2013, no or low cost incen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ss of faculty meeting and professional development tim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ime in February and future faculty meet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ass cutt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ata indicates this is our biggest issue: student survey, revision of consequ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velopment of Tier 2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analyzing what practices we have in place, piloting CICO, continued PD with CRE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By the Number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s of March 30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.88% received 1 referral (tier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35% received 2-6 referrals (tier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57% received &gt;6 referrals (tier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tal number of referrals is 24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6% of all referrals are for class cu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udents with IEP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78 of our 2411 referrals come from students with IE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.68% of total referrals come from the 8.57% of the population that has an I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 9             3.11% of total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 10            5.18% of total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 11            2.20% of total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 12            5.18% of total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n a POSITIVE not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93 students (50%) pledged the Trojan C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23 Trojan Code Tickets were turned in during quarter 1 to 423 (25%)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48 Trojan Code Tickets were turned in during quarter 2 to 276 (17%)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00 students learned the fight s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8% of students have ZERO refer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% of teachers report a positive change in school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4% of teachers have given out Trojan Tic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y 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ed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d to teachers’ concerns regarding student behavior and school cul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e what was started at the elementary and middle school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rly communicate behavioral expec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hasize positive interactions and behavio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ze students on a regular basis for doing the right t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Trojan Code"/>
          <p:cNvPicPr/>
          <p:nvPr/>
        </p:nvPicPr>
        <p:blipFill>
          <a:blip r:embed="rId1"/>
          <a:stretch/>
        </p:blipFill>
        <p:spPr>
          <a:xfrm>
            <a:off x="7238880" y="152280"/>
            <a:ext cx="17528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y do we need it?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ssion of SHS is to help students realize his/her potential by learning the knowledge, skills and behaviors that promote both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sonal fulfillment and civic responsibi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S Core Values and Beliefs – School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embers of the school community demonstrate honor, respect and responsibility in their actions and deci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Trojan Code"/>
          <p:cNvPicPr/>
          <p:nvPr/>
        </p:nvPicPr>
        <p:blipFill>
          <a:blip r:embed="rId1"/>
          <a:stretch/>
        </p:blipFill>
        <p:spPr>
          <a:xfrm>
            <a:off x="152280" y="5029200"/>
            <a:ext cx="17528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HS Statement of Behavi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3057480"/>
            <a:ext cx="777240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sbury High School cultivates an environment that values excellence and ethical behavior in all its members.  Our focus on a positive school culture is the foundation of SH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HS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The Trojan Co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avioral Expect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pectf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showing consideration or appreciation for people’s thoughts, feelings, requests, ideas and prop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nora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cting with honesty, fairness, and with integ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pon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being accountable for one’s actions as well as being reliable and depend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lace Specific and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early Defi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 Se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fe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ing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mb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Gr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Trojan Code"/>
          <p:cNvPicPr/>
          <p:nvPr/>
        </p:nvPicPr>
        <p:blipFill>
          <a:blip r:embed="rId1"/>
          <a:stretch/>
        </p:blipFill>
        <p:spPr>
          <a:xfrm>
            <a:off x="5486400" y="2666880"/>
            <a:ext cx="2438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Thank You Progra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jan Code Tickets with weekly drawings for students and teac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rterly drawings for honor roll, perfect attendance, and no disciplinary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jan Code Pledge (Honor Code) with transcript desig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nk You Thursdays – positive recognition during announce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pportunities during class meetings, school announcements and local news pub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postcards to send home to parents with address labels in each of the faculty roo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Quarter Pilot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pring 2011:  Perfect attendance for students and teacher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pring 2012:  C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centives: prom tickets, yearbooks, parking space, senior portrait sitting, fall sports pass, gift cards, choice of open study period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:  choice of duty and choice of prep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r 2 pilot – CICO with 4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ructures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in Plac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thly Trojan Code meetings – working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thly School Culture meetings - TC reports out here to a larger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thly Data team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ulty meeting and professional development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thly student committee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jan Tickets/Thank You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jan Code Blasts (weekl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12 – 2013:   Expansion of SHS Connect through grade 11 with monthly Trojan Code fo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6:52:51Z</dcterms:created>
  <dc:creator>Eileen</dc:creator>
  <dc:description/>
  <dc:language>en-US</dc:language>
  <cp:lastModifiedBy>Eileen</cp:lastModifiedBy>
  <dcterms:modified xsi:type="dcterms:W3CDTF">2012-04-04T02:25:21Z</dcterms:modified>
  <cp:revision>6</cp:revision>
  <dc:subject/>
  <dc:title>Simsbury High School The Trojan Cod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